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E1E-6BB0-4421-B974-650C16B8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0A2-1C48-4642-BEE5-640EE1B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5EF99-A29D-4EFF-8FD8-AE27D49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433175-74B2-46CF-A45B-0BC4BFE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42F2E8-14DD-4E9C-8BC8-15186EC1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7551E-8DA0-4F44-B41C-3F18B933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31351-77A4-4186-BD36-5F9508D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4A29E-6345-46A3-9C76-FE83398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746B2-6420-40E5-BB3C-DB854B68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E1C29-96FC-4476-9B69-ADD9DEFB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90F4E-20B3-4B7F-9569-22C461FE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E74-1C26-4E20-AC99-F3131AE2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C1A-05BC-4A16-A819-6A65D86F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B9A44-BAC4-4053-955A-78484A4E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62E45-834D-4BF9-BC19-A7072FB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0C95-3951-4571-801D-D97ED12F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9B40C-1F78-4BB9-A9D2-3C589D1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074BC-8866-498E-99AC-B41E65C4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E83A4-C761-421E-9C58-4CBCE3E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46723-FDE5-4309-A2C4-6A7D2F7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C79-7EA1-4A34-9AA4-D53AA89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CB1D-B7C0-497B-8D47-FF49A74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8AA9-053A-4533-9BEB-1E2A32F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7C6A6-2190-4479-BC24-35C559E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BE08A-F2CF-4157-A889-EEA506C6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15FF-383A-4CB2-A1F1-D99FF58D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4B3E-12DA-44BC-881B-B2270D47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5A25-B791-414F-A2B4-4BF95C57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CFE6-460A-4AAA-9232-51D21D4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43F9-FA65-4EB0-988F-FC8D50B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1E62-F504-45A2-9240-989CFCA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292-6CFC-48D9-A0CF-31FEAA2A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B370-FEE4-4896-A73F-62F4A45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025C-0BB5-4E47-A404-62CCA0E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B604-0CA4-48BA-AF07-4245871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10A6-D3FF-48E3-B0D3-E88E444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21FD-60DC-4E25-9093-40311B6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8F29-6B3F-4DE0-B41F-641E2DB4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AABA-6F9A-4601-9B80-6E685885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3D140-9E92-4219-8AC4-99A477FE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116FE-21FF-4CE1-8DD9-5DFA34C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E110C-CAC7-408F-8A8E-3D29AC7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A9B-40A6-44C8-AB4E-EA15DB6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E7118-6379-49F5-980F-35DA30B6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5B3A0-4DCE-4143-B467-70838699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41997-90F3-499C-937F-E63B5B13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2BAD0-28C3-457E-B43F-3FDF0656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08C2B-E165-4724-B73A-CCADE23E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F7C10-DB43-4675-82F2-F118146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17C23-79AB-44DE-9168-DE24E42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26AED-F232-4B81-82C1-0A2D354D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A903D-A67D-4F7B-8493-D53073DF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E1FC-FCB4-492C-A596-D20F7C5A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5FB-6FFD-413B-8511-6A89A8A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6EDD-D60B-4421-AA2E-3C07B305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982A-8318-4A2A-A6EA-1E36F80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6696-67E0-4B5B-BF65-5C935B3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6822-8471-4321-A7A3-833B79C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C7AA-91C0-477E-933D-E070E4D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264C-D006-43D0-9E59-011FC77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4D93-3605-4319-ABFF-3727546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B1C84-F7D9-4996-996F-D7591E45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B55A-702D-4A87-ADD5-392AA567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7588-B4E7-4C0D-A46F-62E7822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72F-1CC7-4C0A-A140-E4A7C1C9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D1DA-4A50-4C6A-9DE1-BB1C3FA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4A4F9-9B49-4482-B984-E0433DB5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BA2D-0C0A-410F-A373-AA1A7F8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54B0-6880-4760-A74D-2688635A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F3E7-8CEC-41DB-94EB-0834C384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5857-49F1-43C3-85D5-FDA27EF8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B412-4DF1-4EA4-B6FC-911396C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E7AE-1FEC-4F47-B051-CABAEBA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F8223-BFC5-4285-8D53-C18C5A0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EAD8-9F2C-490D-94BD-B9D644A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1A7-E34A-4746-A53D-5006C78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9C65-9F29-4981-8722-1D710AE7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E6B7-0C07-49B4-A2B5-15B27DD0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482B-A761-452A-A2B6-E58C7AA5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2C32-BDBF-4D8C-86B4-DDDA3022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2073-C0E9-4260-B37A-DB27CBD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97D0-86DF-4F68-B4B1-87F9481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EEED-2463-4BF4-A8C7-02BFF08A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4E55-F1EB-4C89-94C8-7402E19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0DD8-74D3-4E43-AB9A-BC86ED7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6FDB-F70E-4B87-A1B1-6BE44AF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0F5-9B0C-418E-A8F2-04BB5BE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BECBF-6EFA-48D0-81D9-ACF2581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12EB-0391-44AA-9443-2428248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7CD8-7707-4809-9F32-8E62D17E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37E4-1D03-487E-B80C-216B243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77BD-30AE-4AC6-B4D6-4819DE06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5E2EC-69A3-4822-8FB1-FC32EF96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6ABE8-82FC-4C39-A77E-3E84CBC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430F3C-5427-40A5-B2D5-FDB38B2B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DFB647-FDC9-47B4-8165-4C3FF66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18C27-3847-4B26-A40E-492E2CA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9EB-F544-4536-BDF8-D286938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98061-01C8-406B-B725-80DD2D2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3F1D3-BA81-4F99-99ED-226CCFC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1E64F-5F2F-4B7C-89EA-4B771E1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3A6FF-7CC1-43EB-82CC-6AA97D5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4E6D8-122E-4BB0-A463-866BBAB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79F72-6B45-4935-BDB2-5A31FDF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11AF7-1B87-43FE-8858-40CA818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3DA3E3-5D9D-4749-ACBB-A8F3C3B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4DD61D-59F1-485C-986C-91B75266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AC46E-7CAD-4490-87E8-496A49D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0AD8-9997-4772-8A87-1EEBEFBED0A2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F3E-B873-444A-8C4F-78ADD1487413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249-9563-41F1-BBC5-432E1D849301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781-CBDB-4F48-8597-BF144CD20C81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2FE-AB10-4E3F-B71C-0FFE1274A99D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C04F-366B-44CA-9500-81E1DDAF0ACD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DE6-167A-44A6-8FA7-5BFD1C69A9FC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4ED-35F6-4B1D-96EF-A8B22E7D52C3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EE6E-7D44-4C4C-9990-37B31437D876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20840" y="195120"/>
            <a:ext cx="8547120" cy="2829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517680" y="-17136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ru-RU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517680" y="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USERZAV</cp:lastModifiedBy>
  <dcterms:modified xsi:type="dcterms:W3CDTF">2015-01-17T07:42:03Z</dcterms:modified>
  <cp:revision>21</cp:revision>
  <dc:subject/>
  <dc:title>Как анализировать свой собственный урок  (Самоанализ урока)</dc:title>
</cp:coreProperties>
</file>